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25.gif" ContentType="image/gif"/>
  <Override PartName="/ppt/media/image29.jpeg" ContentType="image/jpeg"/>
  <Override PartName="/ppt/media/image12.gif" ContentType="image/gif"/>
  <Override PartName="/ppt/media/image24.jpeg" ContentType="image/jpeg"/>
  <Override PartName="/ppt/media/image9.gif" ContentType="image/gi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7.jpeg" ContentType="image/jpeg"/>
  <Override PartName="/ppt/media/image28.jpeg" ContentType="image/jpeg"/>
  <Override PartName="/ppt/media/image5.wmf" ContentType="image/x-wmf"/>
  <Override PartName="/ppt/media/image4.png" ContentType="image/png"/>
  <Override PartName="/ppt/media/image27.wmf" ContentType="image/x-wmf"/>
  <Override PartName="/ppt/media/image23.png" ContentType="image/png"/>
  <Override PartName="/ppt/media/image21.wmf" ContentType="image/x-wmf"/>
  <Override PartName="/ppt/media/image20.wmf" ContentType="image/x-wmf"/>
  <Override PartName="/ppt/media/image18.wmf" ContentType="image/x-wmf"/>
  <Override PartName="/ppt/media/image17.gif" ContentType="image/gif"/>
  <Override PartName="/ppt/media/image2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2.jpeg" ContentType="image/jpeg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D3D6-8D3D-4134-9DAE-7B30B662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5FB-6FD0-49EE-A835-E9E3025C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2DBA-1137-43C0-A3C2-6DCF1EC3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18F-8884-444E-86A0-8906F724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D8F-B7F5-41C7-86AD-40BCE017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E33-B731-4292-B1E5-82EAE6C6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606-1136-4C71-91F0-32818A87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61C-3C93-4B91-B03F-8E28609C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AD7-0540-46E3-A9B3-961396E7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41C-9FA2-4DD0-AE56-A859E47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FFB-5E34-47FD-A757-2F035F34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CDE-B3D7-4C88-BDE2-29D98D0F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8F0D-3190-43D2-AFCA-B602831C5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file:///tmp/home/.config/libreoffice/4/user/gallery/~PP424.WAV" TargetMode="External"/><Relationship Id="rId5" Type="http://schemas.microsoft.com/office/2007/relationships/media" Target="file:///tmp/home/.config/libreoffice/4/user/gallery/~PP424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file:///tmp/home/.config/libreoffice/4/user/gallery/~PP1312.WAV" TargetMode="External"/><Relationship Id="rId3" Type="http://schemas.microsoft.com/office/2007/relationships/media" Target="file:///tmp/home/.config/libreoffice/4/user/gallery/~PP1312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audio" Target="file:///tmp/home/.config/libreoffice/4/user/gallery/~PP3427.WAV" TargetMode="External"/><Relationship Id="rId4" Type="http://schemas.microsoft.com/office/2007/relationships/media" Target="file:///tmp/home/.config/libreoffice/4/user/gallery/~PP3427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audio" Target="file:///tmp/home/.config/libreoffice/4/user/gallery/~PP2663.WAV" TargetMode="External"/><Relationship Id="rId4" Type="http://schemas.microsoft.com/office/2007/relationships/media" Target="file:///tmp/home/.config/libreoffice/4/user/gallery/~PP2663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file:///tmp/home/.config/libreoffice/4/user/gallery/~PP731.WAV" TargetMode="External"/><Relationship Id="rId3" Type="http://schemas.microsoft.com/office/2007/relationships/media" Target="file:///tmp/home/.config/libreoffice/4/user/gallery/~PP73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file:///tmp/home/.config/libreoffice/4/user/gallery/~PP260.WAV" TargetMode="External"/><Relationship Id="rId3" Type="http://schemas.microsoft.com/office/2007/relationships/media" Target="file:///tmp/home/.config/libreoffice/4/user/gallery/~PP260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file:///tmp/home/.config/libreoffice/4/user/gallery/~PP3901.WAV" TargetMode="External"/><Relationship Id="rId3" Type="http://schemas.microsoft.com/office/2007/relationships/media" Target="file:///tmp/home/.config/libreoffice/4/user/gallery/~PP390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audio" Target="file:///tmp/home/.config/libreoffice/4/user/gallery/~PP4017.WAV" TargetMode="External"/><Relationship Id="rId5" Type="http://schemas.microsoft.com/office/2007/relationships/media" Target="file:///tmp/home/.config/libreoffice/4/user/gallery/~PP4017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~PP3484.WAV" TargetMode="External"/><Relationship Id="rId3" Type="http://schemas.microsoft.com/office/2007/relationships/media" Target="file:///tmp/home/.config/libreoffice/4/user/gallery/~PP3484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audio" Target="file:///tmp/home/.config/libreoffice/4/user/gallery/~PP2560.WAV" TargetMode="External"/><Relationship Id="rId5" Type="http://schemas.microsoft.com/office/2007/relationships/media" Target="file:///tmp/home/.config/libreoffice/4/user/gallery/~PP2560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audio" Target="file:///tmp/home/.config/libreoffice/4/user/gallery/~PP2932.WAV" TargetMode="External"/><Relationship Id="rId5" Type="http://schemas.microsoft.com/office/2007/relationships/media" Target="file:///tmp/home/.config/libreoffice/4/user/gallery/~PP2932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audio" Target="file:///tmp/home/.config/libreoffice/4/user/gallery/~PP2696.WAV" TargetMode="External"/><Relationship Id="rId5" Type="http://schemas.microsoft.com/office/2007/relationships/media" Target="file:///tmp/home/.config/libreoffice/4/user/gallery/~PP2696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file:///tmp/home/.config/libreoffice/4/user/gallery/~PP2131.WAV" TargetMode="External"/><Relationship Id="rId3" Type="http://schemas.microsoft.com/office/2007/relationships/media" Target="file:///tmp/home/.config/libreoffice/4/user/gallery/~PP213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audio" Target="file:///tmp/home/.config/libreoffice/4/user/gallery/~PP1363.WAV" TargetMode="External"/><Relationship Id="rId4" Type="http://schemas.microsoft.com/office/2007/relationships/media" Target="file:///tmp/home/.config/libreoffice/4/user/gallery/~PP1363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audio" Target="file:///tmp/home/.config/libreoffice/4/user/gallery/~PP1080.WAV" TargetMode="External"/><Relationship Id="rId4" Type="http://schemas.microsoft.com/office/2007/relationships/media" Target="file:///tmp/home/.config/libreoffice/4/user/gallery/~PP1080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Californ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rt Reith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3352680" cy="2252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749320" cy="1498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5880" y="3657600"/>
            <a:ext cx="19386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UCLA Campus besichti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419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Hollywood gefil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410080" cy="3613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09480" y="2666880"/>
            <a:ext cx="1168560" cy="3505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den hamburger geges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2357640" cy="2287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3276720" cy="2367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Arnold Schwarzenegger sprachen ge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971880" cy="397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Angeles geht mir gefa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5397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0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 musst Los Angeles besichtig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1258920"/>
            <a:ext cx="8458200" cy="5599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m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1805040" cy="1538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1325520" cy="1325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733920" y="2362320"/>
            <a:ext cx="2077920" cy="3657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Los Ang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5029200" cy="3856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geschwom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62720" y="4114800"/>
            <a:ext cx="2914560" cy="147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1812960" cy="716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828800" y="2895480"/>
            <a:ext cx="3400560" cy="2544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Los Angeles fotografi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2219400" cy="1809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1917720" cy="2087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47920" y="18288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baseball gespi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2762280" cy="2139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419720" y="4572000"/>
            <a:ext cx="3657600" cy="1373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523880" y="2057400"/>
            <a:ext cx="2094120" cy="2362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baseball gescha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2754360" cy="353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8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den Freund besu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4648320" cy="3082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2713320" cy="2013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sharks gese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525760" cy="1697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23:15Z</dcterms:created>
  <dc:creator>CUSD220</dc:creator>
  <dc:description/>
  <dc:language>en-US</dc:language>
  <cp:lastModifiedBy>CUSD220</cp:lastModifiedBy>
  <dcterms:modified xsi:type="dcterms:W3CDTF">2011-11-15T17:48:05Z</dcterms:modified>
  <cp:revision>4</cp:revision>
  <dc:subject/>
  <dc:title>Ich War in California</dc:title>
</cp:coreProperties>
</file>